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797228"/>
        <c:axId val="34727418"/>
      </c:barChart>
      <c:catAx>
        <c:axId val="107972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27418"/>
        <c:crosses val="autoZero"/>
        <c:auto val="1"/>
        <c:lblAlgn val="ctr"/>
        <c:lblOffset val="100"/>
        <c:noMultiLvlLbl val="0"/>
      </c:catAx>
      <c:valAx>
        <c:axId val="347274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972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A770-05AD-4115-900B-BF3389D9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C1C2-E3FC-4093-B9FC-5B18320A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5333-7CE4-422D-9E78-752D8104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31B5-5B5E-413B-A420-F71CCA1C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9976-B233-4C1A-AE74-BC38F22F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385C-0547-48E2-B57C-A913CAA4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5D09-0480-4647-BA67-15751FD2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5462-E6DB-49B3-97BA-CAE210BF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41A9-4684-4331-A1C1-B207043B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AA5A-B10F-4734-A635-5A845721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7E82-926F-4099-A4FA-38969C67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9DB4-1DFF-4E4B-A4DD-F1A52EB5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E1CA6-B6BD-43D5-A3BF-76342DED45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