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28191"/>
        <c:axId val="50290446"/>
      </c:barChart>
      <c:catAx>
        <c:axId val="55928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90446"/>
        <c:crosses val="autoZero"/>
        <c:auto val="1"/>
        <c:lblAlgn val="ctr"/>
        <c:lblOffset val="100"/>
        <c:noMultiLvlLbl val="0"/>
      </c:catAx>
      <c:valAx>
        <c:axId val="50290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28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651-1EEF-4AC9-A23C-3619162C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766-E051-4B9E-B3AE-78231BF0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00A-8FBB-4498-BFC8-6A943DA8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7C7-B201-422C-9D23-2BAC774E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BAC-6579-407B-963A-02FC7C88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05A-4AC9-44B1-A978-BF7EF8B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67C-70CA-4EAD-ABE9-EE05B4C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84E-CE69-4726-895E-6EB38E47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B79-FBB8-4EEE-8AE5-76913EE9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D40-E503-44D1-8BDF-DDE5F4D9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A7A-9437-446A-9019-D3B2E3C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291-4252-4ABB-A82A-2C46E5F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63EBA-986D-4F62-820D-D6F87F8F15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