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16917"/>
        <c:axId val="31894871"/>
      </c:barChart>
      <c:catAx>
        <c:axId val="83616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94871"/>
        <c:crosses val="autoZero"/>
        <c:auto val="1"/>
        <c:lblAlgn val="ctr"/>
        <c:lblOffset val="100"/>
        <c:noMultiLvlLbl val="0"/>
      </c:catAx>
      <c:valAx>
        <c:axId val="31894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16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629-B5B3-47B4-B6AE-62200A8E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39D-AF2E-49BD-99F0-65804EA2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D28-5DCC-43A9-A182-5D1D3F6E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BF48-FBA0-4A8D-A565-41E7F812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147-1A7E-476A-9D74-8E05A3ED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167-7649-4912-A676-5A552DDE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0E3-C235-4E35-BAD6-921032C4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440-E767-4AFA-8B5A-7CE5E9A9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56F-B062-4DE0-B319-ACB8D2E5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995-30C7-4547-BE0F-F185613D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9AF-6740-4E4E-B606-95896ED4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539-E5DB-4D48-B886-03C1BA89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87F70-C675-4E2E-89B8-FBA32DA96B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