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32928"/>
        <c:axId val="5260160"/>
      </c:barChart>
      <c:catAx>
        <c:axId val="90329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0160"/>
        <c:crosses val="autoZero"/>
        <c:auto val="1"/>
        <c:lblAlgn val="ctr"/>
        <c:lblOffset val="100"/>
        <c:noMultiLvlLbl val="0"/>
      </c:catAx>
      <c:valAx>
        <c:axId val="5260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29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2EF-8B57-4FC0-9378-34C6A0D4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DA56-509C-4757-A7CE-CF402DB2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28D5-FA2E-4E0C-921A-A3AC5021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1B3B-0CD0-447D-9F7F-5F1A3A18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787-11DA-4DBF-A531-EDD40171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8CE-DBA6-48FB-83DB-DEE40DA3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C5C4-119F-484D-8AD9-CEBB4AD1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537D-B95D-4F8F-B551-680C6452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3885-16D1-4D41-9C87-84E75DD9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58CD-2226-44FF-B55F-377769F2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8084-92D2-45E4-ACC8-4FCFAD3A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2DF7-A547-4441-8511-90D41590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8E2EF-423D-48FC-BE7C-076836274A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