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9075"/>
        <c:axId val="53621206"/>
      </c:barChart>
      <c:catAx>
        <c:axId val="7519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21206"/>
        <c:crosses val="autoZero"/>
        <c:auto val="1"/>
        <c:lblAlgn val="ctr"/>
        <c:lblOffset val="100"/>
        <c:noMultiLvlLbl val="0"/>
      </c:catAx>
      <c:valAx>
        <c:axId val="53621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9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323-0E62-4D33-991D-4E78B9EE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04A-B411-47FA-8D47-FD22579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02D-6DA1-4C01-8EEF-4427FBC6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124-F0E8-4894-B36D-DE9FEEC7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D50-DBCD-40F1-86F1-A757474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515-8E87-4299-945A-248366E0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486-6AF1-45B4-A5CB-A799E78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4A0-D2A6-4E70-A0F5-9C5E40F8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C33-D194-4609-8924-FEDB8A8F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768-075F-4146-A02F-1A6905BA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0BB-93F1-49AF-AA46-6D64A355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0FB-2B17-40F5-B6EC-78FB10C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FC3E-13E9-47E9-A509-DA22955D43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