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32913"/>
        <c:axId val="80010711"/>
      </c:barChart>
      <c:catAx>
        <c:axId val="18032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0711"/>
        <c:crosses val="autoZero"/>
        <c:auto val="1"/>
        <c:lblAlgn val="ctr"/>
        <c:lblOffset val="100"/>
        <c:noMultiLvlLbl val="0"/>
      </c:catAx>
      <c:valAx>
        <c:axId val="80010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32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B4C-7001-4225-BF46-01E1716E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777-C2CD-424C-972B-C42DA047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6B3-EC3F-4244-94A8-2975F3C4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380-2639-44EB-9B95-1C178A72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287-8511-4F1C-826C-CC3AB6C9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BE8-EB1F-4269-9689-5D25958B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A11-A2CB-404A-BF54-43DA3499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545-AFD5-4C27-9519-89175B8C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211-1231-4252-AA26-1C8EF4BB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614-37DD-4287-B459-2EE8B270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D9D-885B-4FD6-BAB2-A9DB614A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6C3-7EAC-461B-90A8-F77B656E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C2A6C-3E13-44CF-BD5C-3F4DA9C0D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