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47240"/>
        <c:axId val="87572605"/>
      </c:barChart>
      <c:catAx>
        <c:axId val="22547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72605"/>
        <c:crosses val="autoZero"/>
        <c:auto val="1"/>
        <c:lblAlgn val="ctr"/>
        <c:lblOffset val="100"/>
        <c:noMultiLvlLbl val="0"/>
      </c:catAx>
      <c:valAx>
        <c:axId val="87572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47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1E6-50A7-4FD9-A5BC-C44278D6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CA2-67EF-4412-B751-B2F5EBFF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CE8-1CB2-4DCC-8246-42757E9F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C08-429E-4F6B-ABC4-73B2B08E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855-CF72-441C-B6C9-E2CE1FA6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EEF-AF7C-4DF1-9B3E-8374CC7F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659-F8FA-47A1-9F95-27855821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911-B011-46AE-9FC3-7CF83781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945-F105-439B-BC0F-76EB2E94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A98-0CDA-405C-9885-53944283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5E5-D287-475C-8CD3-23B46342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55F-4CA2-45CC-AFCF-4ECF60B4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6FB61-A44F-4196-802D-AAE8918770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