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23115"/>
        <c:axId val="3832766"/>
      </c:barChart>
      <c:catAx>
        <c:axId val="33923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2766"/>
        <c:crosses val="autoZero"/>
        <c:auto val="1"/>
        <c:lblAlgn val="ctr"/>
        <c:lblOffset val="100"/>
        <c:noMultiLvlLbl val="0"/>
      </c:catAx>
      <c:valAx>
        <c:axId val="3832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23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F9E-1CC6-4121-8B51-3016050B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F0D-0F5F-4390-A6F0-A499FB45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244-383E-429A-B613-CA9A436F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839-60EA-4C18-8F37-7B1BCCDA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3AF-DC36-44C7-9541-4EAC92FB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94B-2584-4D0C-B239-44DD1BFC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B69D-8834-4796-9CB3-17B8B902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A2E-B2C5-441B-9033-C8FF6EE7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D39-B57B-4C7F-9AFB-9B0B1575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470-242A-4C49-85D3-0B5321D6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7C5-2184-46E0-B669-28026DFB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429-1734-49C1-8DA4-ACAF0352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37E49-AEF0-4E09-B5BA-042B0F7F5E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