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62180"/>
        <c:axId val="92261676"/>
      </c:barChart>
      <c:catAx>
        <c:axId val="43462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61676"/>
        <c:crosses val="autoZero"/>
        <c:auto val="1"/>
        <c:lblAlgn val="ctr"/>
        <c:lblOffset val="100"/>
        <c:noMultiLvlLbl val="0"/>
      </c:catAx>
      <c:valAx>
        <c:axId val="92261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62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1EA-4881-4A6E-8866-C9148DDC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196-0FFD-4057-95D8-9C3DC730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979-9E86-48CD-809D-E5AB571E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C2F-F738-4A03-AB41-117397D4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8D6-5BC1-49D9-A6F1-BE01773F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EDB-2163-4471-BC0F-6B558460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798-F65E-4AF8-824B-EC9F267F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797-9D6C-458D-91A8-122A6E78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CD2-EDFF-417D-8558-91FB29E9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41E-5787-4A90-8579-710473F9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0B6-16EC-4B16-8007-2C8267D7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CF7-9855-4E14-AEA5-A27717DD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36791-E45F-433C-9243-FFC93097B3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