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49522"/>
        <c:axId val="40630664"/>
      </c:barChart>
      <c:catAx>
        <c:axId val="25949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0664"/>
        <c:crosses val="autoZero"/>
        <c:auto val="1"/>
        <c:lblAlgn val="ctr"/>
        <c:lblOffset val="100"/>
        <c:noMultiLvlLbl val="0"/>
      </c:catAx>
      <c:valAx>
        <c:axId val="40630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49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160-C388-4EA3-A54C-EAAC2E0C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48E-E65D-4C2C-8698-14E147E8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48E-3055-437C-B8EF-07F6023A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309-4B43-4626-9AEB-E78DB7DA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F99-D859-4BF7-857C-E703B5AB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69F-BD2A-4BB0-98D7-D54A1AA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4D9-F88E-4B40-B64A-3C52AE33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358-0F89-48BA-A89B-B2B4A521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B5D-C67C-4532-9286-482E60E5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AA4-C3EE-4451-862C-EED4BB2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669-7F30-4E77-AF85-8420FB9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460-8924-4345-8C78-6EE062E8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77431-71E0-4140-96B7-9846095CA1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