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17517"/>
        <c:axId val="74927560"/>
      </c:barChart>
      <c:catAx>
        <c:axId val="50117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27560"/>
        <c:crosses val="autoZero"/>
        <c:auto val="1"/>
        <c:lblAlgn val="ctr"/>
        <c:lblOffset val="100"/>
        <c:noMultiLvlLbl val="0"/>
      </c:catAx>
      <c:valAx>
        <c:axId val="74927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7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A15-24E8-41D4-91DF-FAB51F94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3FD-BA06-4956-96B4-EB0A673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0D6-3E29-48EB-87B9-5CC009D7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B1A-7E07-41F9-A169-FDDB16BE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C0B-7D40-4130-BD5E-D239A4C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018-A977-4EAC-A325-3A317A44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BEE-FAD3-4E9F-A3C6-E1CCE17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240-9F2D-4D93-9C7B-FF14B1F6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823-CDD5-4C5E-A707-1F94CA6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6E8-09C1-4383-8915-F9A5712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C3F-B18C-4CB6-AA0B-1FA315FD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3A7-4300-4523-9001-76F1761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237A5-7217-4F55-BCE1-CE37D846E9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