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54069"/>
        <c:axId val="96892052"/>
      </c:barChart>
      <c:catAx>
        <c:axId val="27254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92052"/>
        <c:crosses val="autoZero"/>
        <c:auto val="1"/>
        <c:lblAlgn val="ctr"/>
        <c:lblOffset val="100"/>
        <c:noMultiLvlLbl val="0"/>
      </c:catAx>
      <c:valAx>
        <c:axId val="96892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54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73C-D7C1-45BF-BDB1-09B606F4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2A7-D725-4EB7-BA21-81DBF8AE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870-69E3-4EC3-9B2E-705C81CE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35D-339C-4234-B375-F0DB659F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64EC-F366-47D8-8035-E608512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69D-C1EC-48B4-87D3-84D946D7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B7B-DC4A-49D6-B54D-B4D81A0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517-F79A-43AC-991F-3FE72B02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234-2D2E-4AA4-A977-496701DD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AB2-C698-48C7-8786-5BEFC85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839-D733-4D29-BB99-A83F0F4B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253-0BF4-4911-9283-915BCEF2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09B7D-276E-429F-84CA-A3E5398F0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