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09067"/>
        <c:axId val="3436680"/>
      </c:barChart>
      <c:catAx>
        <c:axId val="80409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6680"/>
        <c:crosses val="autoZero"/>
        <c:auto val="1"/>
        <c:lblAlgn val="ctr"/>
        <c:lblOffset val="100"/>
        <c:noMultiLvlLbl val="0"/>
      </c:catAx>
      <c:valAx>
        <c:axId val="3436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09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504-7DB3-451B-87EA-E588AC85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4DF-B38D-4D21-B7EB-4205BE82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47C-F2F6-4E4C-BCA7-D0375E26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4A1-3732-45A2-A743-6D9AA930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198-A705-4FEF-AA90-4820FF45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428-201E-411E-B2C8-682D9002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1E9-4D8D-4241-B041-F2100AB6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9AC-D5D4-40BD-955E-9B3BC3E2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6A0-00E2-4749-85C3-8589BB7D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E95-312A-4260-A1C1-D4ED50AB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F4A-A7B0-40B6-9069-50C685AB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F08-D24B-4A51-A1E0-12086F8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07820-63D3-4902-B8EB-9CD00FD3E4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