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75759"/>
        <c:axId val="23533702"/>
      </c:barChart>
      <c:catAx>
        <c:axId val="141757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33702"/>
        <c:crosses val="autoZero"/>
        <c:auto val="1"/>
        <c:lblAlgn val="ctr"/>
        <c:lblOffset val="100"/>
        <c:noMultiLvlLbl val="0"/>
      </c:catAx>
      <c:valAx>
        <c:axId val="23533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757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C65-5A73-407B-957A-A66D2D91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B30-1246-4935-9C76-E2A86AC7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CE8-045D-4B28-988F-5CD1D06E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A8A-C88F-4132-B3E2-1A0A3E32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4A5-42BA-428A-95FC-B54EB9F3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C9F-6A43-4E52-9734-97B91FE9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30F-8D9F-4CB1-AADD-3146C050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837-23C7-40E2-883D-201C13A5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107C-F3A0-49C9-86CA-12564B61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8A9-E5AD-49F5-912F-001D5F45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8E8-AC0A-4237-B820-FFFF546D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037-984A-4BD9-BFEF-A83FFC52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F9F98-7CDD-4EA8-8396-E3E21B4D98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