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044889"/>
        <c:axId val="74288518"/>
      </c:barChart>
      <c:catAx>
        <c:axId val="360448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88518"/>
        <c:crosses val="autoZero"/>
        <c:auto val="1"/>
        <c:lblAlgn val="ctr"/>
        <c:lblOffset val="100"/>
        <c:noMultiLvlLbl val="0"/>
      </c:catAx>
      <c:valAx>
        <c:axId val="742885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448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180E-EEA0-4673-B84D-B51E8A81A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A52A-9E06-421C-834B-1DB53FB2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E2E2-DE30-4800-963D-7BBFE28E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6454-8253-4CDF-AABF-EA12A4F3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5A4E-5E95-4C8D-A263-F134E2F2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87FC-5252-4D95-81C5-2F0C394A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790C-2ED0-468B-BE26-0378A9E1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38BE-7E83-4046-AAF2-B0A38DE2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21D8-6916-42A4-83A3-1DC49671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C377-3E2D-40B7-9B58-133D0F62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197E-53DA-47EB-9BFB-7621DFBA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1055-B5D6-40BC-8CB3-159CD937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58CA6-3DDB-4C22-9EB4-FFC4625C89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