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1960"/>
        <c:axId val="31894246"/>
      </c:barChart>
      <c:catAx>
        <c:axId val="15051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4246"/>
        <c:crosses val="autoZero"/>
        <c:auto val="1"/>
        <c:lblAlgn val="ctr"/>
        <c:lblOffset val="100"/>
        <c:noMultiLvlLbl val="0"/>
      </c:catAx>
      <c:valAx>
        <c:axId val="31894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1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D06-2955-4D9B-A251-1B50711B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691-1ACD-427E-B013-0C57614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245-B5CC-4A53-A001-E31E69A1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96C-A5D5-46E1-90C4-7B06116B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3A9-066B-4C5F-9B28-C76436A8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157-4F40-43CD-BC4C-D619CBE1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72B-8D44-4BCF-9B54-7D61590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4C2-BED7-4091-BC7C-444D046B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1B7-CE9E-4399-BF5D-4C8F338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2F1-12DA-46B0-A1C0-E5D0641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A2A-E100-47CF-AFEB-96ED074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562-F3BF-45CA-A91A-00640C0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CB5F2-6668-4B77-A4C1-CB56394AD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