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47270"/>
        <c:axId val="37774662"/>
      </c:barChart>
      <c:catAx>
        <c:axId val="14447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74662"/>
        <c:crosses val="autoZero"/>
        <c:auto val="1"/>
        <c:lblAlgn val="ctr"/>
        <c:lblOffset val="100"/>
        <c:noMultiLvlLbl val="0"/>
      </c:catAx>
      <c:valAx>
        <c:axId val="37774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47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C05-D548-4856-8A54-45CD14F0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05F-FF4F-4E9B-84E2-B613753D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D2F-BEB1-4001-B8F1-DA2F7AA8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55A-00DC-4A9E-B0A9-5D7F6234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738-A98C-47B0-90F5-4072B516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99E-D236-4D4C-BA79-3736D6C8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D15-F88C-4B82-8241-3D4C8B5D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6D7-E75F-4FDC-8B93-9FBFEF5D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FAC-BA3F-4242-B720-E0F0938B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E96-72B6-4503-8181-5493C24A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E01-7802-4A45-BA28-D0ED57C6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12D-9D18-45E7-A07E-72FAAF6F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540AC-34B5-4A29-B653-C8EEB09B67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