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702254"/>
        <c:axId val="37701372"/>
      </c:barChart>
      <c:catAx>
        <c:axId val="417022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01372"/>
        <c:crosses val="autoZero"/>
        <c:auto val="1"/>
        <c:lblAlgn val="ctr"/>
        <c:lblOffset val="100"/>
        <c:noMultiLvlLbl val="0"/>
      </c:catAx>
      <c:valAx>
        <c:axId val="377013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022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F77-17FB-4A41-BA7C-372083BD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2507-900E-408C-99FA-7F0C319E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C4AF-C3B5-4473-BA43-C01BADEC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F3B1-DE67-4EA0-A2E9-D6DE8CDE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171-7E40-469B-9314-9F040B25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C82-05F7-4B6D-B459-E60553A9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DDBC-0B71-44B6-B759-C731036E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175-151E-4AB2-AF3B-A2E4508D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69B6-7097-4A34-B5E4-950CE48B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F216-06EB-4CF1-8393-17058162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A177-217E-44DC-926A-7DCEE1B6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7D1-5166-4CA9-8FB1-45DB669C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86336-C1C1-4E49-9486-7BC08CBF92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