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44598"/>
        <c:axId val="15536484"/>
      </c:barChart>
      <c:catAx>
        <c:axId val="25644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36484"/>
        <c:crosses val="autoZero"/>
        <c:auto val="1"/>
        <c:lblAlgn val="ctr"/>
        <c:lblOffset val="100"/>
        <c:noMultiLvlLbl val="0"/>
      </c:catAx>
      <c:valAx>
        <c:axId val="15536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44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1EC-69E3-44EB-8288-432EC123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98C-B0BD-45F2-AFBF-98D35408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3912-A20F-4839-AEB6-F7160C89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FA8-0EB1-4766-9775-469213C0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BF4-49B5-4CBA-A65E-97CB18C0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B05-4152-49C9-82E5-7980A592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186D-C7B5-4273-9C97-5CA635F8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6F3-8DBA-4286-B13E-9F492DC1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802-C36F-448F-BCD5-B34E3743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1A6-8AD6-49CA-B03E-C7C66ED5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AD1-2244-4D95-9A15-58442A4E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80D5-A0F8-4717-9F74-36640BDE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3049D-5FF8-4D6E-A2A4-1B0524E50C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