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14456"/>
        <c:axId val="29052861"/>
      </c:barChart>
      <c:catAx>
        <c:axId val="53514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2861"/>
        <c:crosses val="autoZero"/>
        <c:auto val="1"/>
        <c:lblAlgn val="ctr"/>
        <c:lblOffset val="100"/>
        <c:noMultiLvlLbl val="0"/>
      </c:catAx>
      <c:valAx>
        <c:axId val="29052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14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81F-2669-4B07-9314-B2C00023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681-8107-49BD-B6DC-95F83F9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915-7C47-4786-89CD-729D7CDD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E3C-881E-45F6-9F8F-736DC92C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360-8E3C-4891-91F3-CA97C0E0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98F-3C00-4A40-A542-BEC9AD3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B6C-AFB0-4D58-B299-2D2EE40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1C1-1D9D-4554-A922-BBE3460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B2E-D1FF-4BED-A420-846CB45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0C7-89C4-47C5-9C53-2C9BCD1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D38-6FC5-45F2-8FEC-6DEFFB9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587-E709-4DE5-B36C-72641F6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71CE3-3D0B-4B81-81F1-0ED6EDE0ED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