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64845"/>
        <c:axId val="98890462"/>
      </c:barChart>
      <c:catAx>
        <c:axId val="195648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90462"/>
        <c:crosses val="autoZero"/>
        <c:auto val="1"/>
        <c:lblAlgn val="ctr"/>
        <c:lblOffset val="100"/>
        <c:noMultiLvlLbl val="0"/>
      </c:catAx>
      <c:valAx>
        <c:axId val="98890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64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2F2-1E7E-47CC-8825-9A986316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5850-416B-4C9D-87FD-D0B494FF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D91-A6A6-4420-90E4-315B712D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C2F-9A07-4B02-A74C-A8B87F44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E161-9A6B-42E1-B502-34C0CE30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ADE-7B6B-4852-BAE1-7FB66E35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D055-9216-45E5-AB48-A4E5A80B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794E-9A5F-48BE-B4D2-20B1BB3A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854E-26D6-4CBC-AC37-18E44944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F804-7ED2-4516-827F-4A007766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022-0ADF-49F6-879A-20E44AC2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4222-15EA-4D59-BB6B-940BAEEE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E9A68-F5EC-4C84-B7FF-8314E1F2C0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