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07526"/>
        <c:axId val="3985963"/>
      </c:barChart>
      <c:catAx>
        <c:axId val="35907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5963"/>
        <c:crosses val="autoZero"/>
        <c:auto val="1"/>
        <c:lblAlgn val="ctr"/>
        <c:lblOffset val="100"/>
        <c:noMultiLvlLbl val="0"/>
      </c:catAx>
      <c:valAx>
        <c:axId val="3985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07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EE2-C0F6-4E4C-94D6-E9F15286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B98-BB92-4EA0-A39C-15EB1DEC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81E-45E9-40DD-B21B-C32AE82A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5E3-8512-4EE0-B7AE-8E5C7936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A9D-4EFA-48E8-9985-F4580066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304-EE79-46FB-A2F9-0EFE4676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7F6-3D10-45A9-BB16-E9BA874C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703-5571-4874-B0DE-49BD6CFA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2D0-F7AD-45E9-BFFC-EC545CC2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26B-F503-431D-8ACB-9CC7218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277-C413-4D5C-A1C9-46953079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165-A455-46BB-842F-3404E243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2BF26-96DF-446E-B310-EC3658CE33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