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40729"/>
        <c:axId val="5430665"/>
      </c:barChart>
      <c:catAx>
        <c:axId val="42240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0665"/>
        <c:crosses val="autoZero"/>
        <c:auto val="1"/>
        <c:lblAlgn val="ctr"/>
        <c:lblOffset val="100"/>
        <c:noMultiLvlLbl val="0"/>
      </c:catAx>
      <c:valAx>
        <c:axId val="5430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40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C2D-C526-4B7D-BD6E-EF0D7400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1BA-CDAF-41C8-B4F4-80575AB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C6B-82FA-4668-BF6E-7A1D31E5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FEE-A9E1-41C3-AB8C-1839BA38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1D3-1190-4313-81C0-FF8E1A78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99D-B981-462D-A5FF-FD34DB5F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1CF-CCE2-4FD4-8356-CB85F89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AD0-8FB4-43D2-B7A2-678A15C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759-41EE-47E0-9012-B059BA0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9DE-B2A6-4B19-9491-775690A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537-9E45-4747-9CDB-BE34BF4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F6F-8321-47F2-9FA4-93D8DC9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4A56C-AB85-4AE1-B47C-8EAA11489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