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73874"/>
        <c:axId val="86271116"/>
      </c:barChart>
      <c:catAx>
        <c:axId val="81173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71116"/>
        <c:crosses val="autoZero"/>
        <c:auto val="1"/>
        <c:lblAlgn val="ctr"/>
        <c:lblOffset val="100"/>
        <c:noMultiLvlLbl val="0"/>
      </c:catAx>
      <c:valAx>
        <c:axId val="86271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73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547-2CE5-4AA9-803B-E2A2EED9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418-D0D8-4532-98D4-52FCDC15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8C2-D95C-4EE2-845D-04F95A80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998-1BCB-432B-A2CE-C773879B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566-2ED4-46CA-A412-27D6B8FB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E70-F98A-4801-8480-E2E19202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0DF-3C8B-42F4-A992-D6F6D420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2AE-8A93-4BC7-8D41-C3DA9957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97D-2A78-4A3D-87DD-744A742D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030-C82C-4F77-81B8-A944536F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048-5DC2-4F3E-96EE-2DFD252D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BEB-5F2F-47FD-B25F-51D377F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383E0-080F-4D56-B70A-1FD0D73EAB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