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65135"/>
        <c:axId val="94918734"/>
      </c:barChart>
      <c:catAx>
        <c:axId val="71165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18734"/>
        <c:crosses val="autoZero"/>
        <c:auto val="1"/>
        <c:lblAlgn val="ctr"/>
        <c:lblOffset val="100"/>
        <c:noMultiLvlLbl val="0"/>
      </c:catAx>
      <c:valAx>
        <c:axId val="94918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65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B9A-73F3-4366-BE14-6A07A767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E15-44C6-4BB5-9265-32A4B79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BDD-189E-46C4-B234-188AC08F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E42-7675-403A-8805-063441AF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605-6A87-43A0-828E-DA61184F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535-70FC-4FF4-B6F5-07A2FC5B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2E8-8AA8-433A-8187-5EB17B00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C5A-E6F0-44EE-9842-F8817870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55F-9E8B-43A9-AA39-4B44DA3A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C15-838C-4606-ABA2-539DA7C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C39-2DFB-46E7-8A03-A924FEA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442-D459-455A-BB45-D1228B9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1747B-C87F-41C4-A30A-D5843A81D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