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486434"/>
        <c:axId val="51472088"/>
      </c:barChart>
      <c:catAx>
        <c:axId val="494864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472088"/>
        <c:crosses val="autoZero"/>
        <c:auto val="1"/>
        <c:lblAlgn val="ctr"/>
        <c:lblOffset val="100"/>
        <c:noMultiLvlLbl val="0"/>
      </c:catAx>
      <c:valAx>
        <c:axId val="514720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4864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C5F7-A43A-4564-A169-C3C138778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65FF-EBEE-4D43-98E4-FDBC2D1E9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56F5-EF99-4B0E-A9FB-B49739133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9E0E-4402-4622-8A8A-FB58CF375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7A90-D44A-49FB-8339-6F871B022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5F34-01BF-448C-9130-080C6E8EB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530F-A28D-4F99-84C7-2705FFAAF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08DF-F158-4C35-9FCA-A9A4AE845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9428-82BD-4325-9494-6F58EC357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745E-C7F4-4628-B7E2-834144D60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DC5E-2BD5-403C-A662-69DE717E4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9A16-AE86-4F66-AC42-7CC74506A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F99F97-3185-498D-9C69-C7C9DE9AB5E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