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825543"/>
        <c:axId val="90169707"/>
      </c:barChart>
      <c:catAx>
        <c:axId val="388255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169707"/>
        <c:crosses val="autoZero"/>
        <c:auto val="1"/>
        <c:lblAlgn val="ctr"/>
        <c:lblOffset val="100"/>
        <c:noMultiLvlLbl val="0"/>
      </c:catAx>
      <c:valAx>
        <c:axId val="901697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255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DD1C-FC72-40DD-B67A-4B2AD35A5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4102-A8E4-4588-987A-1B07738E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F217-7AE1-4DD2-A8B0-901D1413C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FC02-7C3D-4311-A8C9-EC526D901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3996-AC6F-4729-A88F-442A2893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B677-C445-4887-B9FF-BD332A2A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EC34-8E09-458B-8BD4-8E2426EE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A311-2160-4703-8269-F1A02591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34F0-38C6-4276-89CF-50CC7D86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3773-695F-40BA-BFCD-B206AB4E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9B7F-5F02-4CE3-BC68-F0017113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9A15-043C-43A6-908A-B164CCAC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0C22D-2D2F-4580-8292-E9DFA03671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