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14577"/>
        <c:axId val="54937342"/>
      </c:barChart>
      <c:catAx>
        <c:axId val="35614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37342"/>
        <c:crosses val="autoZero"/>
        <c:auto val="1"/>
        <c:lblAlgn val="ctr"/>
        <c:lblOffset val="100"/>
        <c:noMultiLvlLbl val="0"/>
      </c:catAx>
      <c:valAx>
        <c:axId val="54937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14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F5F-B200-4823-AEFE-EF97CE2B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88D-DA4D-4C2E-A314-0CCDCE0C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CE7-BD77-477B-A539-07C620D3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3A1-1F33-4F43-BA05-9DA26AE4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775-7306-4D33-BC89-00D11B31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702-A515-436D-838D-404F8237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75C-CA88-4614-AB5F-480CA55F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983-E93A-445A-BBC9-F9C0351C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7AA-8DF9-475D-ADB7-1E983779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468-53B9-4AE5-A26D-7C998768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15E-9F23-41F6-BD22-ECAA4D6C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386-6D54-4C74-B5E8-0B83A3F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D5140-64F1-4DE0-BEDB-E5369298D8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