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8505"/>
        <c:axId val="3668461"/>
      </c:barChart>
      <c:catAx>
        <c:axId val="5868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8461"/>
        <c:crosses val="autoZero"/>
        <c:auto val="1"/>
        <c:lblAlgn val="ctr"/>
        <c:lblOffset val="100"/>
        <c:noMultiLvlLbl val="0"/>
      </c:catAx>
      <c:valAx>
        <c:axId val="3668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8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458-39A9-43ED-A34F-0E60BE4E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485-FCD9-445A-AF32-93025963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E8A-011F-4E18-A17F-875C3C30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ECD-9577-4857-901E-234CCC1E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CF4-CFBB-4839-8154-134A0CB2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742-EE48-4086-B406-255A5664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FF3-5685-4CB3-8450-623249C3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815-DDFC-47D5-BF3C-ABE450E2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5C1-C307-4E4B-B460-E98B05E6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0AC-F700-4550-977A-D006622E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838-5A9F-401F-9272-DC0A5515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FC0-EB2D-44E0-9AA5-22C513F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507D5-21CC-4BF0-8BDE-2000ADD163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