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79363"/>
        <c:axId val="40990565"/>
      </c:barChart>
      <c:catAx>
        <c:axId val="79179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90565"/>
        <c:crosses val="autoZero"/>
        <c:auto val="1"/>
        <c:lblAlgn val="ctr"/>
        <c:lblOffset val="100"/>
        <c:noMultiLvlLbl val="0"/>
      </c:catAx>
      <c:valAx>
        <c:axId val="409905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79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750B-D2F4-467E-BE28-5820F643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9F7-65C4-42B9-9DA3-8A7081E0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29BF-BA76-48AF-BCA6-CAFABE31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FE7-A067-487B-BB46-C231E5C3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7D1B-1D00-45DD-94A5-3480A957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62E-4E07-4FBE-B369-FEC0B81B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492-1E9F-4634-97B6-416BFF52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6C5-7E05-4CDE-BD38-C2E22D8E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C93-023E-4ED9-9DBA-BFC954BC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05F-5887-4C83-AE6B-6BC6F48E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1FC2-C526-4328-9650-4E66A2C8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9FE-A6AF-47D7-9434-280D45DD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1F294-3208-4721-9E04-E5B1CEB826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