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15806"/>
        <c:axId val="5373703"/>
      </c:barChart>
      <c:catAx>
        <c:axId val="63815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3703"/>
        <c:crosses val="autoZero"/>
        <c:auto val="1"/>
        <c:lblAlgn val="ctr"/>
        <c:lblOffset val="100"/>
        <c:noMultiLvlLbl val="0"/>
      </c:catAx>
      <c:valAx>
        <c:axId val="53737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15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B99-35AD-48D6-A207-2B437493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DDC-363E-432A-A09D-5F821A64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907-424D-4BAA-B462-A78118D3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648A-21C1-47F8-982D-86A1D79E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DDD-2FE4-4106-B1C2-FD5137FD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7B11-2E05-4848-9C18-4D3116E9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ED2-1BDF-41B6-B356-2D7D0AE1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9D47-E1C0-4F50-AECA-CEA59B38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A7E-C4BF-4499-9123-13057410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FCC-A3A6-4EB5-8A18-6208948E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854-0A9D-44A7-AF1F-D875D273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507A-7076-4D69-A88B-D308CF62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D14CC-599D-43B0-AACF-BCF4BB9BBE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