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30547"/>
        <c:axId val="48415874"/>
      </c:barChart>
      <c:catAx>
        <c:axId val="78730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15874"/>
        <c:crosses val="autoZero"/>
        <c:auto val="1"/>
        <c:lblAlgn val="ctr"/>
        <c:lblOffset val="100"/>
        <c:noMultiLvlLbl val="0"/>
      </c:catAx>
      <c:valAx>
        <c:axId val="48415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30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434-877C-4A4C-BC35-96864B9C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0AE-CB44-4838-8EE0-AB1C6807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710-940F-4E67-8E03-40B72617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AA7-A890-48BB-82EC-DCBF40C4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981-8365-47AA-8310-BFA03BB4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448-975C-4C13-838B-8B66B890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FB3-9EB9-4879-AB59-52984631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A53-1DC8-4150-90A0-C0037A95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FC2-A700-4779-BBDD-D882E66D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A17-C3C7-4A3E-A923-C01B4470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8F2-7DD0-45C3-AF37-A6D9F3AA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F4A-C7D1-412D-881A-D1828E3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C09ED-6EFF-4989-926F-FBE58EB373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