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289356"/>
        <c:axId val="14600670"/>
      </c:barChart>
      <c:catAx>
        <c:axId val="742893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600670"/>
        <c:crosses val="autoZero"/>
        <c:auto val="1"/>
        <c:lblAlgn val="ctr"/>
        <c:lblOffset val="100"/>
        <c:noMultiLvlLbl val="0"/>
      </c:catAx>
      <c:valAx>
        <c:axId val="146006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893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32EB-2DE8-4990-8409-E697D8DE7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9871-432B-473F-A439-1E06A6CF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B543-2969-4735-B9B9-8D4C5F911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B99A-D78F-4156-80F4-ECA0BE8B9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0492-C039-461D-9D2A-59503B99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B073-0A13-4E2A-8BF2-450480AA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9891-6BAF-4547-857E-CC1E5433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8218-0EBE-4AE6-BA2E-4BEA6F96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8988-9F99-41A0-8DD0-1DCD86F1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796D-9D7D-4F37-AC87-15B2D82A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7933-00A6-4E28-90BB-298BC5B8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4406-0A75-49C4-85A8-F2947A3A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208E80-2545-4B8A-A58C-F34459D5C4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