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300798"/>
        <c:axId val="41008475"/>
      </c:barChart>
      <c:catAx>
        <c:axId val="283007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08475"/>
        <c:crosses val="autoZero"/>
        <c:auto val="1"/>
        <c:lblAlgn val="ctr"/>
        <c:lblOffset val="100"/>
        <c:noMultiLvlLbl val="0"/>
      </c:catAx>
      <c:valAx>
        <c:axId val="410084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007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1A5C-E28D-47F3-A391-32676652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1CEF-88CF-4E37-864C-204071DF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9040-2C88-4D2C-B3BA-D9886C56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A74D-828B-475A-BDA0-CE492F5E0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E468-2281-4079-91E4-C10762F8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F7A9-9D5F-493D-AED3-9DB393A8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4ED7-2DCE-45A7-848D-7E1071D1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236C-C7AA-43E5-ABA6-29B8CA9D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CAEE-EF1C-49ED-8F2E-DF9FC430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CB1D-3D6B-44AF-9913-003E04B2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C0FB-5105-4047-837B-928A3AFF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0D21-567A-47D9-B279-602DB031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FFFFB-FD3C-40B9-B0DF-7651136F21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