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21915"/>
        <c:axId val="63180150"/>
      </c:barChart>
      <c:catAx>
        <c:axId val="86621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80150"/>
        <c:crosses val="autoZero"/>
        <c:auto val="1"/>
        <c:lblAlgn val="ctr"/>
        <c:lblOffset val="100"/>
        <c:noMultiLvlLbl val="0"/>
      </c:catAx>
      <c:valAx>
        <c:axId val="63180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21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1AC-1127-4498-A251-AF7A7475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849-5A0F-4585-B439-85E58D0A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0D2-A607-4262-B6EC-D2EFD732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31C-4FB5-4330-9642-F2763C80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A97-7B44-49B5-8600-427F6D8C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106-CB3F-4F3B-955F-3F6CC2A8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F4E-A8EB-4CA0-A2F6-8500F3D4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527-84E4-4B65-9102-B88A9083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469-C758-4294-BB2D-38F09A27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7AC-3164-4191-BFC7-FD7844B5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442-9A40-4868-92BF-201C12AE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DD1-BF14-4D9A-A1BC-2EEE87F3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2AC51-A509-4AC6-8B0F-A0F85574D5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