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53230"/>
        <c:axId val="73404648"/>
      </c:barChart>
      <c:catAx>
        <c:axId val="30853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04648"/>
        <c:crosses val="autoZero"/>
        <c:auto val="1"/>
        <c:lblAlgn val="ctr"/>
        <c:lblOffset val="100"/>
        <c:noMultiLvlLbl val="0"/>
      </c:catAx>
      <c:valAx>
        <c:axId val="73404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53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6B1-5E11-40FA-9CAE-E227E90C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D8F-3591-4296-BA1B-52E9BD76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CEA-589C-44D5-88AF-83E13835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01F-78C6-454B-BB08-75130710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85C-4704-4A85-B8EE-0D4BDAC0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41B-6677-4266-84A0-20F8CCD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75B-6694-40D9-99AC-42F73B8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8E1-F495-4485-942C-67F7E926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EE8-7246-484D-B98E-B671778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955-7450-4E25-B6E2-3DF4A4D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EEE-1046-4E0D-9407-3DD3DDF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DE1-4084-40BC-8917-270466D0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76441-DFCF-48BC-A7F7-11C7B33A90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