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464063"/>
        <c:axId val="70638216"/>
      </c:barChart>
      <c:catAx>
        <c:axId val="374640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638216"/>
        <c:crosses val="autoZero"/>
        <c:auto val="1"/>
        <c:lblAlgn val="ctr"/>
        <c:lblOffset val="100"/>
        <c:noMultiLvlLbl val="0"/>
      </c:catAx>
      <c:valAx>
        <c:axId val="706382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4640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9127-E1ED-43C3-B456-7FD9500CF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EC72-81D4-4C77-9D48-122C6511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F462-5749-45CE-9901-B0E3B99F7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2F0C-7341-4870-A80F-83C00AFE1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B75F-5480-41CB-9AEC-6013C247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AB66-C103-4B43-8E9B-3B148C1A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0110-51A1-47DE-825B-362E87CC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73C5-E5B8-456A-901D-B3863FD6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8666-4A17-4753-B96E-1A5A4F4F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B340-2280-496A-9BA2-788D80B8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4053-FACF-4CB6-9FE6-5C4D86B0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9E9B-4ADB-4020-9821-05F6174B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FB3295-73E1-4CCF-8766-A60B3A8940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