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98944"/>
        <c:axId val="17305599"/>
      </c:barChart>
      <c:catAx>
        <c:axId val="874989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05599"/>
        <c:crosses val="autoZero"/>
        <c:auto val="1"/>
        <c:lblAlgn val="ctr"/>
        <c:lblOffset val="100"/>
        <c:noMultiLvlLbl val="0"/>
      </c:catAx>
      <c:valAx>
        <c:axId val="173055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989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C8A-5C0C-4363-B85B-D05E89A6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70E3-EFD9-441B-8521-23C30086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8086-BCAA-4646-80F7-F94EAEAB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088-DB61-4F25-82B6-5F15D366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BB3-C793-4FAD-A15A-1AAA0721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4B7D-82F5-4E92-90A0-E48343EA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EBD4-5170-4F44-8AAE-A41C607A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E35F-F657-44DB-8F19-88ABCB96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C65-0120-4748-BBC7-3D71619B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29A-2046-4334-BF39-29F06236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4EAD-DD94-4932-BE17-47804A8E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45F6-B7B1-4CA3-BDBA-4619D84C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AE25F-C209-4E11-8275-E827BCF8EB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