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56272"/>
        <c:axId val="75364909"/>
      </c:barChart>
      <c:catAx>
        <c:axId val="87456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64909"/>
        <c:crosses val="autoZero"/>
        <c:auto val="1"/>
        <c:lblAlgn val="ctr"/>
        <c:lblOffset val="100"/>
        <c:noMultiLvlLbl val="0"/>
      </c:catAx>
      <c:valAx>
        <c:axId val="75364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56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D7E-F996-44E6-9ADB-8014861D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822-FAA6-4AD2-B3FF-6D76B1CC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BFC-2D35-4CF9-A22E-544A5A84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124-76A7-4C9D-BC18-1E4CA76C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06C-E0D0-4B8E-9004-D6CBD9A4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492-E311-4C83-A072-7ABE510B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B0C-959A-4DA0-B197-B2B51BC6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075-68BC-49B4-B460-DA0CBF52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CF2-1A2E-4E34-84F8-8B1693EC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7E3-2104-4DE3-BF3C-58CA1D3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DED-C1F5-4F02-BB20-96F97FAE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203-E3F0-443A-BFBE-3E2BA288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2BB01-9CBB-4054-BD93-A03562C0F8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