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82273"/>
        <c:axId val="52658646"/>
      </c:barChart>
      <c:catAx>
        <c:axId val="75782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58646"/>
        <c:crosses val="autoZero"/>
        <c:auto val="1"/>
        <c:lblAlgn val="ctr"/>
        <c:lblOffset val="100"/>
        <c:noMultiLvlLbl val="0"/>
      </c:catAx>
      <c:valAx>
        <c:axId val="52658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2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617-C3EE-46EA-B8FD-A971DA73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3A1-C8EB-4200-964E-16AACC5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6C7-7BA5-47BC-B2EA-582791A2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AA8-BBC2-4A6B-A466-2098EA9E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BB-623F-4B23-B694-2E8011E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749-BCB7-49D5-8195-FD0F8D7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CAF-D7BF-48DB-82A7-8E16746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E92-09BE-48B8-BD27-0777B0A1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72C-9744-4D27-9DF8-771CA3F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013-2840-42D2-874D-DA6D88A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098-C1DE-482C-BD0B-642768A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746-2D14-47ED-AE3C-836D139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C568B-82D5-40D1-882B-1A1699FBA9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