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5158"/>
        <c:axId val="12373605"/>
      </c:barChart>
      <c:catAx>
        <c:axId val="3465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73605"/>
        <c:crosses val="autoZero"/>
        <c:auto val="1"/>
        <c:lblAlgn val="ctr"/>
        <c:lblOffset val="100"/>
        <c:noMultiLvlLbl val="0"/>
      </c:catAx>
      <c:valAx>
        <c:axId val="12373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671-B937-46DD-A57A-4496ACD8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8C6-9103-4B85-9C70-08AADA4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5F2-9DD0-41B7-9F10-5F5418C1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A57-1232-4C63-B605-27D7F18B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426-05D8-48EB-82FB-0290BBEF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92C-3C1F-4C3E-A830-BB4F9439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AFF-E585-49EE-A580-743D40F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F37-771D-4061-BFAB-0A5A9E04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A17-1928-401E-8B6E-0DC5E1A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496-0F77-432D-86D7-F3DDFA3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41A-E0CA-4540-833A-DA02020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4E2-CF2E-40F4-A4BB-6060131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EBC9-80C1-4226-BD16-01D5674A26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