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15029"/>
        <c:axId val="55831426"/>
      </c:barChart>
      <c:catAx>
        <c:axId val="98415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1426"/>
        <c:crosses val="autoZero"/>
        <c:auto val="1"/>
        <c:lblAlgn val="ctr"/>
        <c:lblOffset val="100"/>
        <c:noMultiLvlLbl val="0"/>
      </c:catAx>
      <c:valAx>
        <c:axId val="55831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5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046-2CD4-4C9E-B9DE-3966B6DA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C23-9478-4544-9638-EEC3B0B5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181-D169-44CD-BCDA-32FC601F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BD6-9E13-419C-AF4E-DF475FD2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9BD-33D8-4D26-A163-49E1CC32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774-FE72-4E99-8338-266FA36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A59-48D4-4CAE-A95F-7B3DADC2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BFC-7198-4201-A3F1-984BCBB7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7A3-2114-4E46-B4FE-02399CB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23F-9986-4D3D-AF3E-DD4A4BB2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C32-A2D0-4E01-BC5D-14F2DEFE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6E9-DEA2-451F-B52B-A9F6D15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AF327-2BC3-4351-9037-ED6C6C5AB9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