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32261"/>
        <c:axId val="87935544"/>
      </c:barChart>
      <c:catAx>
        <c:axId val="26432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35544"/>
        <c:crosses val="autoZero"/>
        <c:auto val="1"/>
        <c:lblAlgn val="ctr"/>
        <c:lblOffset val="100"/>
        <c:noMultiLvlLbl val="0"/>
      </c:catAx>
      <c:valAx>
        <c:axId val="87935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2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D34-B758-4347-A07A-6BA2A89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14A-67C9-4273-AFCF-70145EBB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91D-43DC-4FA8-8E31-58C81283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AFA-57AB-4007-8B77-362476FD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096-50EF-4752-B9A5-B489A029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580-3A2C-4AAB-98E0-E4AC8086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BA2-A3AB-4F03-97F7-A96C0FC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BBB-30F0-4E7D-BDE0-B6BAB192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8A7-7D96-4627-9D4D-C003F6D6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8DE-9466-4EA8-81CC-E39BB3F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093-8AD0-41D1-9FE5-8D27EC0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AAF-8C01-4E01-90E1-9859BDE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30EB2-8405-4B0A-8585-1C88635B0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