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850328"/>
        <c:axId val="40882560"/>
      </c:barChart>
      <c:catAx>
        <c:axId val="188503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82560"/>
        <c:crosses val="autoZero"/>
        <c:auto val="1"/>
        <c:lblAlgn val="ctr"/>
        <c:lblOffset val="100"/>
        <c:noMultiLvlLbl val="0"/>
      </c:catAx>
      <c:valAx>
        <c:axId val="408825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503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3FBC-C9EF-497E-9793-C3A36276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A7D5-412D-40A8-97AA-0CB7D075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FD1F-3FEA-41DB-809B-DED00C10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4863-B3DF-4096-844D-5A4D45AF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FA21-1AD8-491D-81A4-62B2CED8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E1D9-1C96-4264-AD75-5B8FEA6E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9096-2921-413E-869D-C8C6ED36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01CF-3E9E-4BC7-AA60-D50D5537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3FE7-BD22-485C-8F78-E9A0E757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497D-28D6-426A-AD45-64D6B277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062-1504-4D21-A744-3EE217DE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2106-2E2F-4338-BA1B-76BD614F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E80CF-B57A-4740-AD18-8C90360FE8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