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74087"/>
        <c:axId val="11656862"/>
      </c:barChart>
      <c:catAx>
        <c:axId val="16974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56862"/>
        <c:crosses val="autoZero"/>
        <c:auto val="1"/>
        <c:lblAlgn val="ctr"/>
        <c:lblOffset val="100"/>
        <c:noMultiLvlLbl val="0"/>
      </c:catAx>
      <c:valAx>
        <c:axId val="11656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4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9FD-0B39-4048-8BBF-AA2B6EC2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D72-0B8A-4988-ACC6-AF83A407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3F8-09EF-4FA7-A76A-D91154FA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F3D-6BF2-4415-9644-92453EC0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F88-B524-46AB-A730-9627ABD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CE4-AD1F-4FFF-8FBF-1A213AA9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4B3-42E9-4E04-B383-CE7206DE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A40-BB69-4465-8DF8-9C1C5058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4E7-91E5-43EC-A244-0D3AE91E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677-DFCB-4EC4-BA50-54298AA3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902-1E3F-4ABE-A827-263CDB8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641-5450-47A4-AAB7-20022BC4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C127E-29F5-4BEC-BDEB-97D52222A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