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273428"/>
        <c:axId val="14775913"/>
      </c:barChart>
      <c:catAx>
        <c:axId val="532734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75913"/>
        <c:crosses val="autoZero"/>
        <c:auto val="1"/>
        <c:lblAlgn val="ctr"/>
        <c:lblOffset val="100"/>
        <c:noMultiLvlLbl val="0"/>
      </c:catAx>
      <c:valAx>
        <c:axId val="147759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734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6C91-1E0A-4168-8BD1-6A33C7968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FFB0-7ACD-4054-8C95-695F9562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6382-6693-4E32-B8BD-2936B4CF0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BF7F-294F-4A38-982E-9EF125F9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C53D-90C5-434F-9FBC-7677894B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4E59-2F46-4B04-9F5C-6103535E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1E91-A51D-45EF-821B-7CE65C17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6B9E-35CA-4C14-A8B8-07F6BE1C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63F3-0269-4821-80C8-1E7FABA3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687C-CB8E-4CD0-BBEB-9AAD4F5A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4544-1C47-4428-8A78-B6006FE6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DF76-4965-4BAF-9F61-CB53870E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1FD72-4C0E-4BB5-87F2-FEF9AB4C78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