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20438"/>
        <c:axId val="75537527"/>
      </c:barChart>
      <c:catAx>
        <c:axId val="69920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37527"/>
        <c:crosses val="autoZero"/>
        <c:auto val="1"/>
        <c:lblAlgn val="ctr"/>
        <c:lblOffset val="100"/>
        <c:noMultiLvlLbl val="0"/>
      </c:catAx>
      <c:valAx>
        <c:axId val="75537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20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67C-509A-4759-9917-4E99F435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3B7-3188-42D7-9FFF-3B00304A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11F-E9E8-4702-9D09-22F78524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A9A-0069-440B-AE9F-6D7EAD0E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6F4-6724-4408-B3D7-99344CA1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748-128C-4C56-A624-FD762A7A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31BF-9A38-4005-8079-2C3F30FF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505-DB92-4F6C-A94F-A4CA7755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0C2-C32D-4856-A719-309C70AD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84D2-6051-4381-93E2-C1C50CF8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A867-2D0E-4BE5-A15B-2ED468CB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282-FA4F-47C2-80F5-F42A3C15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97FEA-33F9-4DA4-828D-2AEF14776E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