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93939"/>
        <c:axId val="91575182"/>
      </c:barChart>
      <c:catAx>
        <c:axId val="90693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75182"/>
        <c:crosses val="autoZero"/>
        <c:auto val="1"/>
        <c:lblAlgn val="ctr"/>
        <c:lblOffset val="100"/>
        <c:noMultiLvlLbl val="0"/>
      </c:catAx>
      <c:valAx>
        <c:axId val="91575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93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454-9F5A-453E-AD22-C980743C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77C-B44F-49EB-BEF7-8D4BA915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5272-DEE3-457C-84F4-037FC64E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94F-F0FD-4E0A-9328-FAD855D8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237-4768-4EC1-8A5A-E9ADADEC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25E-2526-44B8-8497-100F60D0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AC4-0E5E-4429-9BAC-4BFDA193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B5A-1468-4369-980D-423A8FAE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264-23D7-4CCF-BF5A-FDEF732B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7A6-2512-4498-BA00-48662609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DB5-5244-4175-A36E-D6A648A7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8DE-3916-4EC6-8C68-4EC3F1A6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86F38-70B7-4FB4-835E-5B18B15E6C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