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62837"/>
        <c:axId val="70955945"/>
      </c:barChart>
      <c:catAx>
        <c:axId val="93662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55945"/>
        <c:crosses val="autoZero"/>
        <c:auto val="1"/>
        <c:lblAlgn val="ctr"/>
        <c:lblOffset val="100"/>
        <c:noMultiLvlLbl val="0"/>
      </c:catAx>
      <c:valAx>
        <c:axId val="70955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62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422-2968-428C-83BC-8159A01E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835F-ED73-43B5-8DD5-5F0F9034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3E1-A5DF-421A-881D-99344ABF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980-BDCB-496F-A426-7FF013FC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26B-E2D3-4805-8742-549DBA4A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76B-62A5-4BF2-8C33-B42AC026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77A-FFD4-42B6-B8F8-A9197F38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2DE-0AEC-47C5-B083-2D7E7BD1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9F4-5214-46B1-B2D9-0CBD2078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5EE-768C-4826-8CE2-B877934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F7E-3B72-42AE-BB1D-B1D81739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437-9934-40FD-9BB7-6F3BF22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1991A-28DB-4D2D-B82B-52348C7AA4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