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60840"/>
        <c:axId val="71615176"/>
      </c:barChart>
      <c:catAx>
        <c:axId val="27960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5176"/>
        <c:crosses val="autoZero"/>
        <c:auto val="1"/>
        <c:lblAlgn val="ctr"/>
        <c:lblOffset val="100"/>
        <c:noMultiLvlLbl val="0"/>
      </c:catAx>
      <c:valAx>
        <c:axId val="71615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60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2FF-1E00-4945-A7A7-3689FF12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804-A35D-4EDE-BE2B-9E8FDDA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74A-6956-4A26-8B97-7CF7C9A9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84E8-D12F-474F-B11F-0A9C79B7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D1F-D438-4CCE-8FF8-D5BA465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B80-C31F-46D7-BD76-497F2E87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063-3C94-4825-BA89-87679239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895-BD60-47CA-896D-D94E23FF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526-21ED-4E90-BAEB-8863435F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72B-C6FC-477A-9A5B-9093228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A3E-6046-4AD6-9845-13A82830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1A9-6170-49D0-8E08-7647DDAD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0F7C-1EB4-4B70-89D7-A65F4D75A2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